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64C-9712-463C-84D5-11CAE336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854-1A40-4D5C-8DED-16B6CFF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946-9857-4F4F-9BD3-601BFF56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47F-A53D-4004-8147-A2C0F13F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606-72B9-4AEF-B15A-AC85D9E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CF1-DABD-4FE8-A6F5-54175E70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E6B-7E6A-48E6-A33C-5A1D6CAE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5D5-BCFD-4475-85FA-F39D1480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624-900D-43CF-A65B-88802A5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567-ED12-4A2D-9B08-B306B18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F07-12D8-4F8B-93D2-3FCB5D5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7AB-264F-4A5B-8010-E3AA60F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471-E509-407D-A371-56666483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9:08:01Z</dcterms:created>
  <dc:creator>Rampi</dc:creator>
  <dc:description/>
  <dc:language>en-US</dc:language>
  <cp:lastModifiedBy>Rampi</cp:lastModifiedBy>
  <dcterms:modified xsi:type="dcterms:W3CDTF">2013-11-10T21:15:01Z</dcterms:modified>
  <cp:revision>5</cp:revision>
  <dc:subject/>
  <dc:title>1. dia</dc:title>
</cp:coreProperties>
</file>