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9DF-C7A3-4C71-B229-DD0C2B23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988-5474-40C8-A136-222E51B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A8A-CD73-4B98-884E-B42BE1A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37B-F4AD-46EE-94E4-5779B36B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263-67E1-43F2-AF30-0C127AA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A71-C0B6-4E50-8DB0-B3F7DA4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89E-5A73-49AA-A136-3A19D04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EA4-697C-4B05-B321-7065EED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808-443A-4FAE-9E9B-ED3C02E5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FD1-5088-4497-9798-BB94FFA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06D-BE2F-4CCB-AFBE-CAC7DF1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864-3E17-4568-8F0F-4EA9675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B0B-84CF-42FE-BC81-4E5EC249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23:35:17Z</dcterms:created>
  <dc:creator>Rampi</dc:creator>
  <dc:description/>
  <dc:language>en-US</dc:language>
  <cp:lastModifiedBy>Rampi</cp:lastModifiedBy>
  <dcterms:modified xsi:type="dcterms:W3CDTF">2013-10-02T09:16:47Z</dcterms:modified>
  <cp:revision>3</cp:revision>
  <dc:subject/>
  <dc:title>1. dia</dc:title>
</cp:coreProperties>
</file>